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0AEE2-921F-4226-A5D3-A2DE4C6EE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734978-8641-48BA-A7C3-5AD46E03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BC333D-E5F1-4F0A-83BC-3CF2B78A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120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8040" y="132660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0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120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8040" y="3044160"/>
            <a:ext cx="292068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8E059-3093-434F-B9B2-949EFD9B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16103-E67A-4367-BB4E-0F86F5BBC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C7A43-D500-4636-AA90-D4DD32E13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6521D-4AD4-4079-BA7F-0080A7CD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BD7C0-62E2-45D5-AC92-0C6ADE86A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9816C7-20AE-4675-A07F-642305A9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D292E-B59F-4CE4-B79E-F84E0297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2680" y="304416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B67C7-4448-4A56-8760-24B701593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00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2680" y="1326600"/>
            <a:ext cx="4426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000" y="3044160"/>
            <a:ext cx="907164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EB0D4-BCDD-4696-BCB3-76E9922E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448080" y="5165280"/>
            <a:ext cx="3192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5373B-4E6B-49B5-8B0A-9AA120EF99C0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3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504000" y="1326600"/>
            <a:ext cx="9071640" cy="3288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3000"/>
              </a:lnSpc>
              <a:spcBef>
                <a:spcPts val="1137"/>
              </a:spcBef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862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575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28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12-01T13:27:04Z</dcterms:created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/>
</file>